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BDA-7B5B-4874-9EFD-16B7C71B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104-5B75-4CD8-BA7C-250A0BFA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262-D9A1-4AF2-8CFF-4786C1C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2A3-E514-4BE0-8C2B-F7FF537E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819-8B5B-4F68-846F-2CF81D89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4E3-5F63-41DE-86E3-F3B15160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716-7460-4C27-BA7F-547B5819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316-D684-42AD-A85A-EC422470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556-7096-4833-A1ED-FE0A7174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007-E024-40E7-AED6-3C568AA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9BF-01FD-48D1-B543-3A3A6D7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1BE-9C26-40F5-86A7-04400AA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D0C-A8D0-45E7-B4C7-79223B6B00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5651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قلب يسوع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صلحنا وسل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بيحة الخطأ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لاص الراج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جاء الـمائت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نعيم جميع القديسين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443700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46880"/>
            <a:ext cx="2376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144000" cy="10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4221000"/>
            <a:ext cx="56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3360"/>
            <a:ext cx="6084720" cy="66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546880"/>
            <a:ext cx="29876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956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35240" y="5157720"/>
            <a:ext cx="1456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0" y="4046400"/>
            <a:ext cx="7019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بن الآب الأزلي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صور من الروح القدس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في أحشاء الوالدة البتول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تحد جوهرياً بكلمة الله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2160360" y="2709000"/>
            <a:ext cx="583236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-243000"/>
            <a:ext cx="5689440" cy="31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ا العظمة غير المتناهية 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هيكل الله المقد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باء الرب الع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بيت الله وباب السماء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آتون المحبة المضطر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نزل العدل و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فعم جوداً وح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جة الفضائل كله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جدير بكل تسبح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لك جميع القلوب ومركزه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655640"/>
            <a:ext cx="752472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لحاوي كل كنوز الحكمة والع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سكن ملء اللاهوت ك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سرور الآب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ذي من فيضه أخذنا جميع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غبة الآكام الدهر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طويل الأناة والكثير الرح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غني لكل من يدعون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نبوع الحياة والقداس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ضحية عن آث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وسع عاراً لأجل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نسحق لأجل أرجاس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يع حتى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عون بالحر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صدر كل تعز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حياتنا وقيامت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-</cp:lastModifiedBy>
  <dcterms:modified xsi:type="dcterms:W3CDTF">2003-01-14T17:34:41Z</dcterms:modified>
  <cp:revision>21</cp:revision>
  <dc:subject/>
  <dc:title>كيرياليسون، كريستياليسون، كيرياليسون  يا ربنا يسوع المسيح أنصت إلينا  إستجبنا </dc:title>
</cp:coreProperties>
</file>